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9AA4-5C16-4757-98F2-11513446F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B67C-BAEA-4E14-8DF5-D387D54D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4496-CCF7-4A3B-90E9-1873836D7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C753-B8FA-48E5-9696-E595240DC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D44A-999E-4235-9F53-98DD3347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4E2B-A318-43A0-A633-7F43B2EB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5329-CA66-42E1-9C43-59F07FC4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1194-5BE2-4DD7-A306-A362E429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55CF-BCA4-4B77-857C-D9A8C805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71EB-4276-4376-9481-18F43690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BCEF-8F84-43F6-A6B1-62E10B3C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1332-9BA9-4867-969F-313490C5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A873-7B7E-4855-8932-9001D5CBC4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6"/>
          <p:cNvSpPr/>
          <p:nvPr/>
        </p:nvSpPr>
        <p:spPr>
          <a:xfrm>
            <a:off x="5219640" y="3213000"/>
            <a:ext cx="2843280" cy="2735280"/>
          </a:xfrm>
          <a:prstGeom prst="ellipse">
            <a:avLst/>
          </a:prstGeom>
          <a:solidFill>
            <a:srgbClr val="7427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5"/>
          <p:cNvSpPr/>
          <p:nvPr/>
        </p:nvSpPr>
        <p:spPr>
          <a:xfrm>
            <a:off x="1293840" y="3213000"/>
            <a:ext cx="2843280" cy="2735280"/>
          </a:xfrm>
          <a:prstGeom prst="ellipse">
            <a:avLst/>
          </a:prstGeom>
          <a:solidFill>
            <a:srgbClr val="7427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3" descr="MPj04226000000[1]"/>
          <p:cNvPicPr/>
          <p:nvPr/>
        </p:nvPicPr>
        <p:blipFill>
          <a:blip r:embed="rId1"/>
          <a:srcRect l="0" t="26361" r="0" b="0"/>
          <a:stretch/>
        </p:blipFill>
        <p:spPr>
          <a:xfrm>
            <a:off x="2771640" y="3213000"/>
            <a:ext cx="3888000" cy="2737080"/>
          </a:xfrm>
          <a:prstGeom prst="rect">
            <a:avLst/>
          </a:prstGeom>
          <a:ln w="0">
            <a:noFill/>
          </a:ln>
        </p:spPr>
      </p:pic>
      <p:cxnSp>
        <p:nvCxnSpPr>
          <p:cNvPr id="44" name="AutoShape 7"/>
          <p:cNvCxnSpPr/>
          <p:nvPr/>
        </p:nvCxnSpPr>
        <p:spPr>
          <a:xfrm>
            <a:off x="2842920" y="3141360"/>
            <a:ext cx="3817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5" name="Line 9"/>
          <p:cNvSpPr/>
          <p:nvPr/>
        </p:nvSpPr>
        <p:spPr>
          <a:xfrm>
            <a:off x="2700360" y="328464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2949480" y="4292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4246560" y="33559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4140360" y="4581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300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1509840" y="4292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848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2987640" y="1773360"/>
            <a:ext cx="12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148m2 this is the area in the stad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7596360" y="333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592 peo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6"/>
          <p:cNvSpPr/>
          <p:nvPr/>
        </p:nvSpPr>
        <p:spPr>
          <a:xfrm>
            <a:off x="684360" y="692280"/>
            <a:ext cx="165564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7"/>
          <p:cNvSpPr/>
          <p:nvPr/>
        </p:nvSpPr>
        <p:spPr>
          <a:xfrm>
            <a:off x="1619280" y="836640"/>
            <a:ext cx="57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8"/>
          <p:cNvSpPr/>
          <p:nvPr/>
        </p:nvSpPr>
        <p:spPr>
          <a:xfrm>
            <a:off x="826920" y="836640"/>
            <a:ext cx="57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9"/>
          <p:cNvSpPr/>
          <p:nvPr/>
        </p:nvSpPr>
        <p:spPr>
          <a:xfrm>
            <a:off x="826920" y="1555920"/>
            <a:ext cx="576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0"/>
          <p:cNvSpPr/>
          <p:nvPr/>
        </p:nvSpPr>
        <p:spPr>
          <a:xfrm>
            <a:off x="1619280" y="1555920"/>
            <a:ext cx="576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2"/>
          <p:cNvSpPr/>
          <p:nvPr/>
        </p:nvSpPr>
        <p:spPr>
          <a:xfrm>
            <a:off x="8915400" y="6813720"/>
            <a:ext cx="144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1"/>
          <p:cNvSpPr/>
          <p:nvPr/>
        </p:nvSpPr>
        <p:spPr>
          <a:xfrm>
            <a:off x="8812080" y="6929280"/>
            <a:ext cx="35892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3"/>
          <p:cNvSpPr/>
          <p:nvPr/>
        </p:nvSpPr>
        <p:spPr>
          <a:xfrm>
            <a:off x="8143920" y="6819840"/>
            <a:ext cx="144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4"/>
          <p:cNvSpPr/>
          <p:nvPr/>
        </p:nvSpPr>
        <p:spPr>
          <a:xfrm>
            <a:off x="8040600" y="6935760"/>
            <a:ext cx="35892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5"/>
          <p:cNvSpPr/>
          <p:nvPr/>
        </p:nvSpPr>
        <p:spPr>
          <a:xfrm>
            <a:off x="8924760" y="7539120"/>
            <a:ext cx="14472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6"/>
          <p:cNvSpPr/>
          <p:nvPr/>
        </p:nvSpPr>
        <p:spPr>
          <a:xfrm>
            <a:off x="8821800" y="7655040"/>
            <a:ext cx="358560" cy="35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27"/>
          <p:cNvSpPr/>
          <p:nvPr/>
        </p:nvSpPr>
        <p:spPr>
          <a:xfrm>
            <a:off x="8143920" y="7523280"/>
            <a:ext cx="144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8"/>
          <p:cNvSpPr/>
          <p:nvPr/>
        </p:nvSpPr>
        <p:spPr>
          <a:xfrm>
            <a:off x="8040600" y="7639200"/>
            <a:ext cx="358920" cy="35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9"/>
          <p:cNvSpPr/>
          <p:nvPr/>
        </p:nvSpPr>
        <p:spPr>
          <a:xfrm>
            <a:off x="539640" y="26028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people in a square me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5580000" y="981000"/>
            <a:ext cx="324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you allow for a ceremony space then 30000 people. This leaves just over 2500 square meters for the ceremo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4"/>
          <p:cNvSpPr/>
          <p:nvPr/>
        </p:nvSpPr>
        <p:spPr>
          <a:xfrm>
            <a:off x="3564000" y="3716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5"/>
          <p:cNvSpPr/>
          <p:nvPr/>
        </p:nvSpPr>
        <p:spPr>
          <a:xfrm flipV="1">
            <a:off x="3419640" y="4005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6"/>
          <p:cNvSpPr/>
          <p:nvPr/>
        </p:nvSpPr>
        <p:spPr>
          <a:xfrm flipV="1">
            <a:off x="3851280" y="3644640"/>
            <a:ext cx="2890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7"/>
          <p:cNvSpPr/>
          <p:nvPr/>
        </p:nvSpPr>
        <p:spPr>
          <a:xfrm>
            <a:off x="5219640" y="3860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8"/>
          <p:cNvSpPr/>
          <p:nvPr/>
        </p:nvSpPr>
        <p:spPr>
          <a:xfrm>
            <a:off x="4932360" y="3645000"/>
            <a:ext cx="287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9"/>
          <p:cNvSpPr/>
          <p:nvPr/>
        </p:nvSpPr>
        <p:spPr>
          <a:xfrm flipH="1">
            <a:off x="5148000" y="4221000"/>
            <a:ext cx="2142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0"/>
          <p:cNvSpPr/>
          <p:nvPr/>
        </p:nvSpPr>
        <p:spPr>
          <a:xfrm>
            <a:off x="1763640" y="6093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0m x 90m = 6300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+             pi x 3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 = 3848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17 -0.00277 -0.00677 -0.00578 -0.01059 -0.00925 C -0.01823 -0.03009 -0.00694 0 -0.01632 -0.02152 C -0.02066 -0.03148 -0.01389 -0.02083 -0.01979 -0.03078 C -0.02292 -0.03611 -0.02187 -0.03194 -0.02448 -0.03865 C -0.02812 -0.04837 -0.03142 -0.05879 -0.03733 -0.06666 C -0.03854 -0.07222 -0.04132 -0.07361 -0.04305 -0.07893 C -0.04566 -0.0868 -0.04653 -0.0949 -0.05 -0.10231 C -0.05139 -0.10879 -0.05347 -0.1162 -0.05712 -0.12083 C -0.05816 -0.12708 -0.06024 -0.13194 -0.06163 -0.13796 C -0.06354 -0.16435 -0.06771 -0.18958 -0.07101 -0.2155 C -0.07014 -0.23171 -0.07101 -0.25254 -0.06163 -0.26504 C -0.06007 -0.27476 -0.0566 -0.28333 -0.05469 -0.29282 C -0.05312 -0.30115 -0.0533 -0.30972 -0.05121 -0.31782 C -0.05035 -0.33541 -0.04983 -0.35208 -0.04653 -0.36898 C -0.04514 -0.39189 -0.03941 -0.41365 -0.03142 -0.43402 C -0.03038 -0.44004 -0.0283 -0.44375 -0.02673 -0.44953 C -0.02569 -0.45902 -0.02413 -0.45995 -0.02222 -0.46805 C -0.02187 -0.47268 -0.02187 -0.47754 -0.02101 -0.48217 C -0.02066 -0.48425 -0.0191 -0.48611 -0.01875 -0.48819 C -0.01562 -0.50462 -0.01649 -0.52268 -0.0151 -0.53935 C -0.0158 -0.56944 -0.01406 -0.62407 -0.02569 -0.65416 C -0.02795 -0.66736 -0.02465 -0.65393 -0.03038 -0.66504 C -0.03455 -0.67337 -0.0342 -0.68402 -0.0408 -0.68981 C -0.0434 -0.69537 -0.04375 -0.69861 -0.04774 -0.70231 C -0.05104 -0.71458 -0.04618 -0.6993 -0.05243 -0.70995 C -0.05312 -0.71111 -0.05278 -0.71319 -0.05347 -0.71458 C -0.05451 -0.71689 -0.05972 -0.72152 -0.06059 -0.72245 C -0.06128 -0.72453 -0.0618 -0.72685 -0.06285 -0.72847 C -0.06371 -0.72986 -0.06562 -0.73009 -0.06632 -0.73171 C -0.07083 -0.74074 -0.06389 -0.73657 -0.07101 -0.73935 C -0.07621 -0.74421 -0.07483 -0.74652 -0.08142 -0.74884 C -0.0901 -0.75625 -0.11146 -0.76226 -0.12222 -0.76412 C -0.18229 -0.76296 -0.24236 -0.75995 -0.30243 -0.76273 C -0.31858 -0.76527 -0.33403 -0.76921 -0.35 -0.77361 C -0.35521 -0.775 -0.35712 -0.7743 -0.36163 -0.77662 C -0.36684 -0.77916 -0.37483 -0.78356 -0.37934 -0.7875 C -0.38403 -0.79189 -0.38767 -0.79583 -0.39305 -0.79837 C -0.39878 -0.80555 -0.40989 -0.80763 -0.41753 -0.81064 C -0.42031 -0.81481 -0.42274 -0.81666 -0.42673 -0.81851 C -0.43298 -0.82638 -0.44358 -0.83055 -0.45121 -0.83564 C -0.46146 -0.84259 -0.47066 -0.8537 -0.48038 -0.8618 C -0.48698 -0.86736 -0.49444 -0.8699 -0.50121 -0.87592 C -0.5026 -0.87708 -0.50434 -0.87662 -0.5059 -0.87731 C -0.51389 -0.88055 -0.52118 -0.88402 -0.52917 -0.8868 C -0.53958 -0.8905 -0.55017 -0.89259 -0.56059 -0.89606 C -0.56632 -0.89791 -0.57205 -0.90185 -0.57795 -0.90231 C -0.58733 -0.90324 -0.59653 -0.90324 -0.6059 -0.9037 C -0.74236 -0.90069 -0.69722 -0.91574 -0.74548 -0.89907 C -0.74896 -0.89606 -0.75555 -0.89027 -0.75816 -0.8868 C -0.76233 -0.88125 -0.76337 -0.87592 -0.76979 -0.87592 E">
                                      <p:cBhvr>
                                        <p:cTn id="6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17 -0.00277 -0.00677 -0.00578 -0.01059 -0.00925 C -0.01823 -0.03009 -0.00694 0 -0.01632 -0.02152 C -0.02066 -0.03148 -0.01389 -0.02083 -0.01979 -0.03078 C -0.02292 -0.03611 -0.02187 -0.03194 -0.02448 -0.03865 C -0.02812 -0.04837 -0.03142 -0.05879 -0.03733 -0.06666 C -0.03854 -0.07222 -0.04132 -0.07361 -0.04305 -0.07893 C -0.04566 -0.0868 -0.04653 -0.0949 -0.05 -0.10231 C -0.05139 -0.10879 -0.05347 -0.1162 -0.05712 -0.12083 C -0.05816 -0.12708 -0.06024 -0.13194 -0.06163 -0.13796 C -0.06354 -0.16435 -0.06771 -0.18958 -0.07101 -0.2155 C -0.07014 -0.23171 -0.07101 -0.25254 -0.06163 -0.26504 C -0.06007 -0.27476 -0.0566 -0.28333 -0.05469 -0.29282 C -0.05312 -0.30115 -0.0533 -0.30972 -0.05121 -0.31782 C -0.05035 -0.33541 -0.04983 -0.35208 -0.04653 -0.36898 C -0.04514 -0.39189 -0.03941 -0.41365 -0.03142 -0.43402 C -0.03038 -0.44004 -0.0283 -0.44375 -0.02673 -0.44953 C -0.02569 -0.45902 -0.02413 -0.45995 -0.02222 -0.46805 C -0.02187 -0.47268 -0.02187 -0.47754 -0.02101 -0.48217 C -0.02066 -0.48425 -0.0191 -0.48611 -0.01875 -0.48819 C -0.01562 -0.50462 -0.01649 -0.52268 -0.0151 -0.53935 C -0.0158 -0.56944 -0.01406 -0.62407 -0.02569 -0.65416 C -0.02795 -0.66736 -0.02465 -0.65393 -0.03038 -0.66504 C -0.03455 -0.67337 -0.0342 -0.68402 -0.0408 -0.68981 C -0.0434 -0.69537 -0.04375 -0.69861 -0.04774 -0.70231 C -0.05104 -0.71458 -0.04618 -0.6993 -0.05243 -0.70995 C -0.05312 -0.71111 -0.05278 -0.71319 -0.05347 -0.71458 C -0.05451 -0.71689 -0.05972 -0.72152 -0.06059 -0.72245 C -0.06128 -0.72453 -0.0618 -0.72685 -0.06285 -0.72847 C -0.06371 -0.72986 -0.06562 -0.73009 -0.06632 -0.73171 C -0.07083 -0.74074 -0.06389 -0.73657 -0.07101 -0.73935 C -0.07621 -0.74421 -0.07483 -0.74652 -0.08142 -0.74884 C -0.0901 -0.75625 -0.11146 -0.76226 -0.12222 -0.76412 C -0.18229 -0.76296 -0.24236 -0.75995 -0.30243 -0.76273 C -0.31858 -0.76527 -0.33403 -0.76921 -0.35 -0.77361 C -0.35521 -0.775 -0.35712 -0.7743 -0.36163 -0.77662 C -0.36684 -0.77916 -0.37483 -0.78356 -0.37934 -0.7875 C -0.38403 -0.79189 -0.38767 -0.79583 -0.39305 -0.79837 C -0.39878 -0.80555 -0.40989 -0.80763 -0.41753 -0.81064 C -0.42031 -0.81481 -0.42274 -0.81666 -0.42673 -0.81851 C -0.43298 -0.82638 -0.44358 -0.83055 -0.45121 -0.83564 C -0.46146 -0.84259 -0.47066 -0.8537 -0.48038 -0.8618 C -0.48698 -0.86736 -0.49444 -0.8699 -0.50121 -0.87592 C -0.5026 -0.87708 -0.50434 -0.87662 -0.5059 -0.87731 C -0.51389 -0.88055 -0.52118 -0.88402 -0.52917 -0.8868 C -0.53958 -0.8905 -0.55017 -0.89259 -0.56059 -0.89606 C -0.56632 -0.89791 -0.57205 -0.90185 -0.57795 -0.90231 C -0.58733 -0.90324 -0.59653 -0.90324 -0.6059 -0.9037 C -0.74236 -0.90069 -0.69722 -0.91574 -0.74548 -0.89907 C -0.74896 -0.89606 -0.75555 -0.89027 -0.75816 -0.8868 C -0.76233 -0.88125 -0.76337 -0.87592 -0.76979 -0.87592 E">
                                      <p:cBhvr>
                                        <p:cTn id="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17 -0.00277 -0.00677 -0.00578 -0.01059 -0.00925 C -0.01823 -0.03009 -0.00694 0 -0.01632 -0.02152 C -0.02066 -0.03148 -0.01389 -0.02083 -0.01979 -0.03078 C -0.02292 -0.03611 -0.02187 -0.03194 -0.02448 -0.03865 C -0.02812 -0.04837 -0.03142 -0.05879 -0.03733 -0.06666 C -0.03854 -0.07222 -0.04132 -0.07361 -0.04305 -0.07893 C -0.04566 -0.0868 -0.04653 -0.0949 -0.05 -0.10231 C -0.05139 -0.10879 -0.05347 -0.1162 -0.05712 -0.12083 C -0.05816 -0.12708 -0.06024 -0.13194 -0.06163 -0.13796 C -0.06354 -0.16435 -0.06771 -0.18958 -0.07101 -0.2155 C -0.07014 -0.23171 -0.07101 -0.25254 -0.06163 -0.26504 C -0.06007 -0.27476 -0.0566 -0.28333 -0.05469 -0.29282 C -0.05312 -0.30115 -0.0533 -0.30972 -0.05121 -0.31782 C -0.05035 -0.33541 -0.04983 -0.35208 -0.04653 -0.36898 C -0.04514 -0.39189 -0.03941 -0.41365 -0.03142 -0.43402 C -0.03038 -0.44004 -0.0283 -0.44375 -0.02673 -0.44953 C -0.02569 -0.45902 -0.02413 -0.45995 -0.02222 -0.46805 C -0.02187 -0.47268 -0.02187 -0.47754 -0.02101 -0.48217 C -0.02066 -0.48425 -0.0191 -0.48611 -0.01875 -0.48819 C -0.01562 -0.50462 -0.01649 -0.52268 -0.0151 -0.53935 C -0.0158 -0.56944 -0.01406 -0.62407 -0.02569 -0.65416 C -0.02795 -0.66736 -0.02465 -0.65393 -0.03038 -0.66504 C -0.03455 -0.67337 -0.0342 -0.68402 -0.0408 -0.68981 C -0.0434 -0.69537 -0.04375 -0.69861 -0.04774 -0.70231 C -0.05104 -0.71458 -0.04618 -0.6993 -0.05243 -0.70995 C -0.05312 -0.71111 -0.05278 -0.71319 -0.05347 -0.71458 C -0.05451 -0.71689 -0.05972 -0.72152 -0.06059 -0.72245 C -0.06128 -0.72453 -0.0618 -0.72685 -0.06285 -0.72847 C -0.06371 -0.72986 -0.06562 -0.73009 -0.06632 -0.73171 C -0.07083 -0.74074 -0.06389 -0.73657 -0.07101 -0.73935 C -0.07621 -0.74421 -0.07483 -0.74652 -0.08142 -0.74884 C -0.0901 -0.75625 -0.11146 -0.76226 -0.12222 -0.76412 C -0.18229 -0.76296 -0.24236 -0.75995 -0.30243 -0.76273 C -0.31858 -0.76527 -0.33403 -0.76921 -0.35 -0.77361 C -0.35521 -0.775 -0.35712 -0.7743 -0.36163 -0.77662 C -0.36684 -0.77916 -0.37483 -0.78356 -0.37934 -0.7875 C -0.38403 -0.79189 -0.38767 -0.79583 -0.39305 -0.79837 C -0.39878 -0.80555 -0.40989 -0.80763 -0.41753 -0.81064 C -0.42031 -0.81481 -0.42274 -0.81666 -0.42673 -0.81851 C -0.43298 -0.82638 -0.44358 -0.83055 -0.45121 -0.83564 C -0.46146 -0.84259 -0.47066 -0.8537 -0.48038 -0.8618 C -0.48698 -0.86736 -0.49444 -0.8699 -0.50121 -0.87592 C -0.5026 -0.87708 -0.50434 -0.87662 -0.5059 -0.87731 C -0.51389 -0.88055 -0.52118 -0.88402 -0.52917 -0.8868 C -0.53958 -0.8905 -0.55017 -0.89259 -0.56059 -0.89606 C -0.56632 -0.89791 -0.57205 -0.90185 -0.57795 -0.90231 C -0.58733 -0.90324 -0.59653 -0.90324 -0.6059 -0.9037 C -0.74236 -0.90069 -0.69722 -0.91574 -0.74548 -0.89907 C -0.74896 -0.89606 -0.75555 -0.89027 -0.75816 -0.8868 C -0.76233 -0.88125 -0.76337 -0.87592 -0.76979 -0.87592 E">
                                      <p:cBhvr>
                                        <p:cTn id="10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17 -0.00277 -0.00677 -0.00578 -0.01059 -0.00925 C -0.01823 -0.03009 -0.00694 0 -0.01632 -0.02152 C -0.02066 -0.03148 -0.01389 -0.02083 -0.01979 -0.03078 C -0.02292 -0.03611 -0.02187 -0.03194 -0.02448 -0.03865 C -0.02812 -0.04837 -0.03142 -0.05879 -0.03733 -0.06666 C -0.03854 -0.07222 -0.04132 -0.07361 -0.04305 -0.07893 C -0.04566 -0.0868 -0.04653 -0.0949 -0.05 -0.10231 C -0.05139 -0.10879 -0.05347 -0.1162 -0.05712 -0.12083 C -0.05816 -0.12708 -0.06024 -0.13194 -0.06163 -0.13796 C -0.06354 -0.16435 -0.06771 -0.18958 -0.07101 -0.2155 C -0.07014 -0.23171 -0.07101 -0.25254 -0.06163 -0.26504 C -0.06007 -0.27476 -0.0566 -0.28333 -0.05469 -0.29282 C -0.05312 -0.30115 -0.0533 -0.30972 -0.05121 -0.31782 C -0.05035 -0.33541 -0.04983 -0.35208 -0.04653 -0.36898 C -0.04514 -0.39189 -0.03941 -0.41365 -0.03142 -0.43402 C -0.03038 -0.44004 -0.0283 -0.44375 -0.02673 -0.44953 C -0.02569 -0.45902 -0.02413 -0.45995 -0.02222 -0.46805 C -0.02187 -0.47268 -0.02187 -0.47754 -0.02101 -0.48217 C -0.02066 -0.48425 -0.0191 -0.48611 -0.01875 -0.48819 C -0.01562 -0.50462 -0.01649 -0.52268 -0.0151 -0.53935 C -0.0158 -0.56944 -0.01406 -0.62407 -0.02569 -0.65416 C -0.02795 -0.66736 -0.02465 -0.65393 -0.03038 -0.66504 C -0.03455 -0.67337 -0.0342 -0.68402 -0.0408 -0.68981 C -0.0434 -0.69537 -0.04375 -0.69861 -0.04774 -0.70231 C -0.05104 -0.71458 -0.04618 -0.6993 -0.05243 -0.70995 C -0.05312 -0.71111 -0.05278 -0.71319 -0.05347 -0.71458 C -0.05451 -0.71689 -0.05972 -0.72152 -0.06059 -0.72245 C -0.06128 -0.72453 -0.0618 -0.72685 -0.06285 -0.72847 C -0.06371 -0.72986 -0.06562 -0.73009 -0.06632 -0.73171 C -0.07083 -0.74074 -0.06389 -0.73657 -0.07101 -0.73935 C -0.07621 -0.74421 -0.07483 -0.74652 -0.08142 -0.74884 C -0.0901 -0.75625 -0.11146 -0.76226 -0.12222 -0.76412 C -0.18229 -0.76296 -0.24236 -0.75995 -0.30243 -0.76273 C -0.31858 -0.76527 -0.33403 -0.76921 -0.35 -0.77361 C -0.35521 -0.775 -0.35712 -0.7743 -0.36163 -0.77662 C -0.36684 -0.77916 -0.37483 -0.78356 -0.37934 -0.7875 C -0.38403 -0.79189 -0.38767 -0.79583 -0.39305 -0.79837 C -0.39878 -0.80555 -0.40989 -0.80763 -0.41753 -0.81064 C -0.42031 -0.81481 -0.42274 -0.81666 -0.42673 -0.81851 C -0.43298 -0.82638 -0.44358 -0.83055 -0.45121 -0.83564 C -0.46146 -0.84259 -0.47066 -0.8537 -0.48038 -0.8618 C -0.48698 -0.86736 -0.49444 -0.8699 -0.50121 -0.87592 C -0.5026 -0.87708 -0.50434 -0.87662 -0.5059 -0.87731 C -0.51389 -0.88055 -0.52118 -0.88402 -0.52917 -0.8868 C -0.53958 -0.8905 -0.55017 -0.89259 -0.56059 -0.89606 C -0.56632 -0.89791 -0.57205 -0.90185 -0.57795 -0.90231 C -0.58733 -0.90324 -0.59653 -0.90324 -0.6059 -0.9037 C -0.74236 -0.90069 -0.69722 -0.91574 -0.74548 -0.89907 C -0.74896 -0.89606 -0.75555 -0.89027 -0.75816 -0.8868 C -0.76233 -0.88125 -0.76337 -0.87592 -0.76979 -0.87592 E">
                                      <p:cBhvr>
                                        <p:cTn id="12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17 -0.00277 -0.00677 -0.00578 -0.01059 -0.00925 C -0.01823 -0.03009 -0.00694 0 -0.01632 -0.02152 C -0.02066 -0.03148 -0.01389 -0.02083 -0.01979 -0.03078 C -0.02292 -0.03611 -0.02187 -0.03194 -0.02448 -0.03865 C -0.02812 -0.04837 -0.03142 -0.05879 -0.03733 -0.06666 C -0.03854 -0.07222 -0.04132 -0.07361 -0.04305 -0.07893 C -0.04566 -0.0868 -0.04653 -0.0949 -0.05 -0.10231 C -0.05139 -0.10879 -0.05347 -0.1162 -0.05712 -0.12083 C -0.05816 -0.12708 -0.06024 -0.13194 -0.06163 -0.13796 C -0.06354 -0.16435 -0.06771 -0.18958 -0.07101 -0.2155 C -0.07014 -0.23171 -0.07101 -0.25254 -0.06163 -0.26504 C -0.06007 -0.27476 -0.0566 -0.28333 -0.05469 -0.29282 C -0.05312 -0.30115 -0.0533 -0.30972 -0.05121 -0.31782 C -0.05035 -0.33541 -0.04983 -0.35208 -0.04653 -0.36898 C -0.04514 -0.39189 -0.03941 -0.41365 -0.03142 -0.43402 C -0.03038 -0.44004 -0.0283 -0.44375 -0.02673 -0.44953 C -0.02569 -0.45902 -0.02413 -0.45995 -0.02222 -0.46805 C -0.02187 -0.47268 -0.02187 -0.47754 -0.02101 -0.48217 C -0.02066 -0.48425 -0.0191 -0.48611 -0.01875 -0.48819 C -0.01562 -0.50462 -0.01649 -0.52268 -0.0151 -0.53935 C -0.0158 -0.56944 -0.01406 -0.62407 -0.02569 -0.65416 C -0.02795 -0.66736 -0.02465 -0.65393 -0.03038 -0.66504 C -0.03455 -0.67337 -0.0342 -0.68402 -0.0408 -0.68981 C -0.0434 -0.69537 -0.04375 -0.69861 -0.04774 -0.70231 C -0.05104 -0.71458 -0.04618 -0.6993 -0.05243 -0.70995 C -0.05312 -0.71111 -0.05278 -0.71319 -0.05347 -0.71458 C -0.05451 -0.71689 -0.05972 -0.72152 -0.06059 -0.72245 C -0.06128 -0.72453 -0.0618 -0.72685 -0.06285 -0.72847 C -0.06371 -0.72986 -0.06562 -0.73009 -0.06632 -0.73171 C -0.07083 -0.74074 -0.06389 -0.73657 -0.07101 -0.73935 C -0.07621 -0.74421 -0.07483 -0.74652 -0.08142 -0.74884 C -0.0901 -0.75625 -0.11146 -0.76226 -0.12222 -0.76412 C -0.18229 -0.76296 -0.24236 -0.75995 -0.30243 -0.76273 C -0.31858 -0.76527 -0.33403 -0.76921 -0.35 -0.77361 C -0.35521 -0.775 -0.35712 -0.7743 -0.36163 -0.77662 C -0.36684 -0.77916 -0.37483 -0.78356 -0.37934 -0.7875 C -0.38403 -0.79189 -0.38767 -0.79583 -0.39305 -0.79837 C -0.39878 -0.80555 -0.40989 -0.80763 -0.41753 -0.81064 C -0.42031 -0.81481 -0.42274 -0.81666 -0.42673 -0.81851 C -0.43298 -0.82638 -0.44358 -0.83055 -0.45121 -0.83564 C -0.46146 -0.84259 -0.47066 -0.8537 -0.48038 -0.8618 C -0.48698 -0.86736 -0.49444 -0.8699 -0.50121 -0.87592 C -0.5026 -0.87708 -0.50434 -0.87662 -0.5059 -0.87731 C -0.51389 -0.88055 -0.52118 -0.88402 -0.52917 -0.8868 C -0.53958 -0.8905 -0.55017 -0.89259 -0.56059 -0.89606 C -0.56632 -0.89791 -0.57205 -0.90185 -0.57795 -0.90231 C -0.58733 -0.90324 -0.59653 -0.90324 -0.6059 -0.9037 C -0.74236 -0.90069 -0.69722 -0.91574 -0.74548 -0.89907 C -0.74896 -0.89606 -0.75555 -0.89027 -0.75816 -0.8868 C -0.76233 -0.88125 -0.76337 -0.87592 -0.76979 -0.87592 E">
                                      <p:cBhvr>
                                        <p:cTn id="14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17 -0.00277 -0.00677 -0.00578 -0.01059 -0.00925 C -0.01823 -0.03009 -0.00694 0 -0.01632 -0.02152 C -0.02066 -0.03148 -0.01389 -0.02083 -0.01979 -0.03078 C -0.02292 -0.03611 -0.02187 -0.03194 -0.02448 -0.03865 C -0.02812 -0.04837 -0.03142 -0.05879 -0.03733 -0.06666 C -0.03854 -0.07222 -0.04132 -0.07361 -0.04305 -0.07893 C -0.04566 -0.0868 -0.04653 -0.0949 -0.05 -0.10231 C -0.05139 -0.10879 -0.05347 -0.1162 -0.05712 -0.12083 C -0.05816 -0.12708 -0.06024 -0.13194 -0.06163 -0.13796 C -0.06354 -0.16435 -0.06771 -0.18958 -0.07101 -0.2155 C -0.07014 -0.23171 -0.07101 -0.25254 -0.06163 -0.26504 C -0.06007 -0.27476 -0.0566 -0.28333 -0.05469 -0.29282 C -0.05312 -0.30115 -0.0533 -0.30972 -0.05121 -0.31782 C -0.05035 -0.33541 -0.04983 -0.35208 -0.04653 -0.36898 C -0.04514 -0.39189 -0.03941 -0.41365 -0.03142 -0.43402 C -0.03038 -0.44004 -0.0283 -0.44375 -0.02673 -0.44953 C -0.02569 -0.45902 -0.02413 -0.45995 -0.02222 -0.46805 C -0.02187 -0.47268 -0.02187 -0.47754 -0.02101 -0.48217 C -0.02066 -0.48425 -0.0191 -0.48611 -0.01875 -0.48819 C -0.01562 -0.50462 -0.01649 -0.52268 -0.0151 -0.53935 C -0.0158 -0.56944 -0.01406 -0.62407 -0.02569 -0.65416 C -0.02795 -0.66736 -0.02465 -0.65393 -0.03038 -0.66504 C -0.03455 -0.67337 -0.0342 -0.68402 -0.0408 -0.68981 C -0.0434 -0.69537 -0.04375 -0.69861 -0.04774 -0.70231 C -0.05104 -0.71458 -0.04618 -0.6993 -0.05243 -0.70995 C -0.05312 -0.71111 -0.05278 -0.71319 -0.05347 -0.71458 C -0.05451 -0.71689 -0.05972 -0.72152 -0.06059 -0.72245 C -0.06128 -0.72453 -0.0618 -0.72685 -0.06285 -0.72847 C -0.06371 -0.72986 -0.06562 -0.73009 -0.06632 -0.73171 C -0.07083 -0.74074 -0.06389 -0.73657 -0.07101 -0.73935 C -0.07621 -0.74421 -0.07483 -0.74652 -0.08142 -0.74884 C -0.0901 -0.75625 -0.11146 -0.76226 -0.12222 -0.76412 C -0.18229 -0.76296 -0.24236 -0.75995 -0.30243 -0.76273 C -0.31858 -0.76527 -0.33403 -0.76921 -0.35 -0.77361 C -0.35521 -0.775 -0.35712 -0.7743 -0.36163 -0.77662 C -0.36684 -0.77916 -0.37483 -0.78356 -0.37934 -0.7875 C -0.38403 -0.79189 -0.38767 -0.79583 -0.39305 -0.79837 C -0.39878 -0.80555 -0.40989 -0.80763 -0.41753 -0.81064 C -0.42031 -0.81481 -0.42274 -0.81666 -0.42673 -0.81851 C -0.43298 -0.82638 -0.44358 -0.83055 -0.45121 -0.83564 C -0.46146 -0.84259 -0.47066 -0.8537 -0.48038 -0.8618 C -0.48698 -0.86736 -0.49444 -0.8699 -0.50121 -0.87592 C -0.5026 -0.87708 -0.50434 -0.87662 -0.5059 -0.87731 C -0.51389 -0.88055 -0.52118 -0.88402 -0.52917 -0.8868 C -0.53958 -0.8905 -0.55017 -0.89259 -0.56059 -0.89606 C -0.56632 -0.89791 -0.57205 -0.90185 -0.57795 -0.90231 C -0.58733 -0.90324 -0.59653 -0.90324 -0.6059 -0.9037 C -0.74236 -0.90069 -0.69722 -0.91574 -0.74548 -0.89907 C -0.74896 -0.89606 -0.75555 -0.89027 -0.75816 -0.8868 C -0.76233 -0.88125 -0.76337 -0.87592 -0.76979 -0.87592 E">
                                      <p:cBhvr>
                                        <p:cTn id="1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17 -0.00277 -0.00677 -0.00578 -0.01059 -0.00925 C -0.01823 -0.03009 -0.00694 0 -0.01632 -0.02152 C -0.02066 -0.03148 -0.01389 -0.02083 -0.01979 -0.03078 C -0.02292 -0.03611 -0.02187 -0.03194 -0.02448 -0.03865 C -0.02812 -0.04837 -0.03142 -0.05879 -0.03733 -0.06666 C -0.03854 -0.07222 -0.04132 -0.07361 -0.04305 -0.07893 C -0.04566 -0.0868 -0.04653 -0.0949 -0.05 -0.10231 C -0.05139 -0.10879 -0.05347 -0.1162 -0.05712 -0.12083 C -0.05816 -0.12708 -0.06024 -0.13194 -0.06163 -0.13796 C -0.06354 -0.16435 -0.06771 -0.18958 -0.07101 -0.2155 C -0.07014 -0.23171 -0.07101 -0.25254 -0.06163 -0.26504 C -0.06007 -0.27476 -0.0566 -0.28333 -0.05469 -0.29282 C -0.05312 -0.30115 -0.0533 -0.30972 -0.05121 -0.31782 C -0.05035 -0.33541 -0.04983 -0.35208 -0.04653 -0.36898 C -0.04514 -0.39189 -0.03941 -0.41365 -0.03142 -0.43402 C -0.03038 -0.44004 -0.0283 -0.44375 -0.02673 -0.44953 C -0.02569 -0.45902 -0.02413 -0.45995 -0.02222 -0.46805 C -0.02187 -0.47268 -0.02187 -0.47754 -0.02101 -0.48217 C -0.02066 -0.48425 -0.0191 -0.48611 -0.01875 -0.48819 C -0.01562 -0.50462 -0.01649 -0.52268 -0.0151 -0.53935 C -0.0158 -0.56944 -0.01406 -0.62407 -0.02569 -0.65416 C -0.02795 -0.66736 -0.02465 -0.65393 -0.03038 -0.66504 C -0.03455 -0.67337 -0.0342 -0.68402 -0.0408 -0.68981 C -0.0434 -0.69537 -0.04375 -0.69861 -0.04774 -0.70231 C -0.05104 -0.71458 -0.04618 -0.6993 -0.05243 -0.70995 C -0.05312 -0.71111 -0.05278 -0.71319 -0.05347 -0.71458 C -0.05451 -0.71689 -0.05972 -0.72152 -0.06059 -0.72245 C -0.06128 -0.72453 -0.0618 -0.72685 -0.06285 -0.72847 C -0.06371 -0.72986 -0.06562 -0.73009 -0.06632 -0.73171 C -0.07083 -0.74074 -0.06389 -0.73657 -0.07101 -0.73935 C -0.07621 -0.74421 -0.07483 -0.74652 -0.08142 -0.74884 C -0.0901 -0.75625 -0.11146 -0.76226 -0.12222 -0.76412 C -0.18229 -0.76296 -0.24236 -0.75995 -0.30243 -0.76273 C -0.31858 -0.76527 -0.33403 -0.76921 -0.35 -0.77361 C -0.35521 -0.775 -0.35712 -0.7743 -0.36163 -0.77662 C -0.36684 -0.77916 -0.37483 -0.78356 -0.37934 -0.7875 C -0.38403 -0.79189 -0.38767 -0.79583 -0.39305 -0.79837 C -0.39878 -0.80555 -0.40989 -0.80763 -0.41753 -0.81064 C -0.42031 -0.81481 -0.42274 -0.81666 -0.42673 -0.81851 C -0.43298 -0.82638 -0.44358 -0.83055 -0.45121 -0.83564 C -0.46146 -0.84259 -0.47066 -0.8537 -0.48038 -0.8618 C -0.48698 -0.86736 -0.49444 -0.8699 -0.50121 -0.87592 C -0.5026 -0.87708 -0.50434 -0.87662 -0.5059 -0.87731 C -0.51389 -0.88055 -0.52118 -0.88402 -0.52917 -0.8868 C -0.53958 -0.8905 -0.55017 -0.89259 -0.56059 -0.89606 C -0.56632 -0.89791 -0.57205 -0.90185 -0.57795 -0.90231 C -0.58733 -0.90324 -0.59653 -0.90324 -0.6059 -0.9037 C -0.74236 -0.90069 -0.69722 -0.91574 -0.74548 -0.89907 C -0.74896 -0.89606 -0.75555 -0.89027 -0.75816 -0.8868 C -0.76233 -0.88125 -0.76337 -0.87592 -0.76979 -0.87592 E">
                                      <p:cBhvr>
                                        <p:cTn id="18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17 -0.00277 -0.00677 -0.00578 -0.01059 -0.00925 C -0.01823 -0.03009 -0.00694 0 -0.01632 -0.02152 C -0.02066 -0.03148 -0.01389 -0.02083 -0.01979 -0.03078 C -0.02292 -0.03611 -0.02187 -0.03194 -0.02448 -0.03865 C -0.02812 -0.04837 -0.03142 -0.05879 -0.03733 -0.06666 C -0.03854 -0.07222 -0.04132 -0.07361 -0.04305 -0.07893 C -0.04566 -0.0868 -0.04653 -0.0949 -0.05 -0.10231 C -0.05139 -0.10879 -0.05347 -0.1162 -0.05712 -0.12083 C -0.05816 -0.12708 -0.06024 -0.13194 -0.06163 -0.13796 C -0.06354 -0.16435 -0.06771 -0.18958 -0.07101 -0.2155 C -0.07014 -0.23171 -0.07101 -0.25254 -0.06163 -0.26504 C -0.06007 -0.27476 -0.0566 -0.28333 -0.05469 -0.29282 C -0.05312 -0.30115 -0.0533 -0.30972 -0.05121 -0.31782 C -0.05035 -0.33541 -0.04983 -0.35208 -0.04653 -0.36898 C -0.04514 -0.39189 -0.03941 -0.41365 -0.03142 -0.43402 C -0.03038 -0.44004 -0.0283 -0.44375 -0.02673 -0.44953 C -0.02569 -0.45902 -0.02413 -0.45995 -0.02222 -0.46805 C -0.02187 -0.47268 -0.02187 -0.47754 -0.02101 -0.48217 C -0.02066 -0.48425 -0.0191 -0.48611 -0.01875 -0.48819 C -0.01562 -0.50462 -0.01649 -0.52268 -0.0151 -0.53935 C -0.0158 -0.56944 -0.01406 -0.62407 -0.02569 -0.65416 C -0.02795 -0.66736 -0.02465 -0.65393 -0.03038 -0.66504 C -0.03455 -0.67337 -0.0342 -0.68402 -0.0408 -0.68981 C -0.0434 -0.69537 -0.04375 -0.69861 -0.04774 -0.70231 C -0.05104 -0.71458 -0.04618 -0.6993 -0.05243 -0.70995 C -0.05312 -0.71111 -0.05278 -0.71319 -0.05347 -0.71458 C -0.05451 -0.71689 -0.05972 -0.72152 -0.06059 -0.72245 C -0.06128 -0.72453 -0.0618 -0.72685 -0.06285 -0.72847 C -0.06371 -0.72986 -0.06562 -0.73009 -0.06632 -0.73171 C -0.07083 -0.74074 -0.06389 -0.73657 -0.07101 -0.73935 C -0.07621 -0.74421 -0.07483 -0.74652 -0.08142 -0.74884 C -0.0901 -0.75625 -0.11146 -0.76226 -0.12222 -0.76412 C -0.18229 -0.76296 -0.24236 -0.75995 -0.30243 -0.76273 C -0.31858 -0.76527 -0.33403 -0.76921 -0.35 -0.77361 C -0.35521 -0.775 -0.35712 -0.7743 -0.36163 -0.77662 C -0.36684 -0.77916 -0.37483 -0.78356 -0.37934 -0.7875 C -0.38403 -0.79189 -0.38767 -0.79583 -0.39305 -0.79837 C -0.39878 -0.80555 -0.40989 -0.80763 -0.41753 -0.81064 C -0.42031 -0.81481 -0.42274 -0.81666 -0.42673 -0.81851 C -0.43298 -0.82638 -0.44358 -0.83055 -0.45121 -0.83564 C -0.46146 -0.84259 -0.47066 -0.8537 -0.48038 -0.8618 C -0.48698 -0.86736 -0.49444 -0.8699 -0.50121 -0.87592 C -0.5026 -0.87708 -0.50434 -0.87662 -0.5059 -0.87731 C -0.51389 -0.88055 -0.52118 -0.88402 -0.52917 -0.8868 C -0.53958 -0.8905 -0.55017 -0.89259 -0.56059 -0.89606 C -0.56632 -0.89791 -0.57205 -0.90185 -0.57795 -0.90231 C -0.58733 -0.90324 -0.59653 -0.90324 -0.6059 -0.9037 C -0.74236 -0.90069 -0.69722 -0.91574 -0.74548 -0.89907 C -0.74896 -0.89606 -0.75555 -0.89027 -0.75816 -0.8868 C -0.76233 -0.88125 -0.76337 -0.87592 -0.76979 -0.87592 E">
                                      <p:cBhvr>
                                        <p:cTn id="20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09:33:34Z</dcterms:created>
  <dc:creator>colesc</dc:creator>
  <dc:description/>
  <dc:language>en-US</dc:language>
  <cp:lastModifiedBy> </cp:lastModifiedBy>
  <dcterms:modified xsi:type="dcterms:W3CDTF">2010-06-12T11:53:01Z</dcterms:modified>
  <cp:revision>2</cp:revision>
  <dc:subject/>
  <dc:title>Slide 1</dc:title>
</cp:coreProperties>
</file>